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12DA-6153-40D8-90B7-2753B60F8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729B-3244-4E43-8619-E1D709147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0D03-91AA-4063-9014-515F1F621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1307-6679-4723-B47E-B526D0620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423E-6361-41C6-A166-9FA7C4EC0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D851-4FD0-4606-82C4-3144FAC5F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89F5-7AD0-4A83-88A8-B31162586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8169-55DD-4D3C-BBA5-B90E634F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06B3-EA37-4D6F-9EE6-02970ADD7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401C-389D-4032-B601-62BA26A3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6F70-C2C2-483B-90C2-9E17F373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2AF7-83D2-4562-920A-DE6A62CD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4C731-B4FA-4CEE-9978-EAFB97E94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es salutations et la pré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ire bonj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187280" y="1773360"/>
            <a:ext cx="1781280" cy="2571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187280" y="4292640"/>
            <a:ext cx="1511640" cy="22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onj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aludo estándar formal, entre desconocidos o conocidos que siguen un protocolo. También se emplea entre conocidos como “Buenos día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5580000" y="1773360"/>
          <a:ext cx="2200320" cy="180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0000" y="1773360"/>
                    <a:ext cx="2200320" cy="18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6084720" y="3860640"/>
            <a:ext cx="1152720" cy="20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al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aludo informal entre amigos y familiares. También se puede usar como despedid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es salutations du j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03280" y="1773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: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56000" y="1773360"/>
            <a:ext cx="1008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: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59280" y="1989000"/>
            <a:ext cx="3816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7002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onj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03280" y="263700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: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56000" y="2637000"/>
            <a:ext cx="1008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: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00720" y="2492280"/>
            <a:ext cx="302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on après-midi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aunque lo más usual es bonjo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03280" y="3860640"/>
            <a:ext cx="100800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: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56000" y="3860640"/>
            <a:ext cx="100800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: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00720" y="378936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onso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26920" y="4869000"/>
            <a:ext cx="33847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ando voy a dorm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16360" y="494172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onne n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26920" y="5877000"/>
            <a:ext cx="7490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stos son los principales saludos en francés. Por supuesto las horas son aproximadas. 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Bon après-midi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no se suele usar. 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Bonne nuit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es solo cuando me despido hasta el día siguient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n la práctica funcionan con “bonjour” casi todo el día, aunque depende de las region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t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mment allez-vous?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e utiliza en las conversaciones form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0066"/>
                </a:solidFill>
                <a:latin typeface="Arial"/>
              </a:rPr>
              <a:t>¿Cómo está us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Respues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rès bien, merci. Et v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ff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66"/>
                </a:solidFill>
                <a:latin typeface="Arial"/>
              </a:rPr>
              <a:t>Muy bien, gracias. ¿Y us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Je ne vais pas mal, merci. Et v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ff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66"/>
                </a:solidFill>
                <a:latin typeface="Arial"/>
              </a:rPr>
              <a:t>No voy mal, gracias. ¿Y us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Je ne vais pas très bien, merci. Et v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ff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66"/>
                </a:solidFill>
                <a:latin typeface="Arial"/>
              </a:rPr>
              <a:t>No voy bien, gracias. ¿Y us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tal?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Ça va? / Comment ça va?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e utiliza en las conversaciones informa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0066"/>
                </a:solidFill>
                <a:latin typeface="Arial"/>
              </a:rPr>
              <a:t>¿Qué tal? / ¿Cómo va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Respuest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Ça va) très bien, merci. Et to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66"/>
                </a:solidFill>
                <a:latin typeface="Arial"/>
              </a:rPr>
              <a:t>Muy bien, gracias. ¿Y t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Ça va, merci. Et toi? / (Ça va) bien, merci. Et to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66"/>
                </a:solidFill>
                <a:latin typeface="Arial"/>
              </a:rPr>
              <a:t>Bien, gracias. ¿Y t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Ça va) pas mal, merci. Et to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66"/>
                </a:solidFill>
                <a:latin typeface="Arial"/>
              </a:rPr>
              <a:t>No va mal, gracias. ¿Y t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Ça va) mal / très mal, merci. Et to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66"/>
                </a:solidFill>
                <a:latin typeface="Arial"/>
              </a:rPr>
              <a:t>Mal / muy mal, gracias. ¿Y t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ire au revo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093080" y="333360"/>
          <a:ext cx="1162080" cy="102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93080" y="333360"/>
                    <a:ext cx="116208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042920" y="1484280"/>
            <a:ext cx="7274160" cy="51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66"/>
                </a:solidFill>
                <a:latin typeface="Arial"/>
              </a:rPr>
              <a:t>Adiós</a:t>
            </a:r>
            <a:r>
              <a:rPr b="0" lang="es-ES" sz="2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u revoir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Despedida estándar y más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orm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alut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Despedida más inform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66"/>
                </a:solidFill>
                <a:latin typeface="Arial"/>
              </a:rPr>
              <a:t>Hasta lueg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À bientô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66"/>
                </a:solidFill>
                <a:latin typeface="Arial"/>
              </a:rPr>
              <a:t>Hasta pront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66"/>
                </a:solidFill>
                <a:latin typeface="Arial"/>
              </a:rPr>
              <a:t>Hasta mañan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À de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66"/>
                </a:solidFill>
                <a:latin typeface="Arial"/>
              </a:rPr>
              <a:t>Hasta el lune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À lun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66"/>
                </a:solidFill>
                <a:latin typeface="Arial"/>
              </a:rPr>
              <a:t>Buen fin de seman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on week-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40360" y="2997360"/>
            <a:ext cx="71280" cy="1079280"/>
          </a:xfrm>
          <a:custGeom>
            <a:avLst/>
            <a:gdLst>
              <a:gd name="textAreaLeft" fmla="*/ 0 w 71280"/>
              <a:gd name="textAreaRight" fmla="*/ 25560 w 7128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e prés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 Bonjour, je m’appelle Je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t toi, comment tu t’appel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onjour, je m’appelle Mar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chant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chanté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Buenos días, me llamo Je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Y tú, ¿cómo te llam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Buenos días, me llamo Mar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Encant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Encant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e prés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268360" y="1628640"/>
          <a:ext cx="4969080" cy="3864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68360" y="1628640"/>
                    <a:ext cx="4969080" cy="386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179280" y="836640"/>
            <a:ext cx="2305080" cy="1152360"/>
          </a:xfrm>
          <a:prstGeom prst="wedgeEllipseCallout">
            <a:avLst>
              <a:gd name="adj1" fmla="val 46143"/>
              <a:gd name="adj2" fmla="val 763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Bonjour, je m’appelle Jean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2781360"/>
            <a:ext cx="2017440" cy="863640"/>
          </a:xfrm>
          <a:prstGeom prst="wedgeRoundRectCallout">
            <a:avLst>
              <a:gd name="adj1" fmla="val 58810"/>
              <a:gd name="adj2" fmla="val -3676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t toi, comment tu t’appell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77080" y="981000"/>
            <a:ext cx="1871640" cy="1152720"/>
          </a:xfrm>
          <a:prstGeom prst="wedgeRoundRectCallout">
            <a:avLst>
              <a:gd name="adj1" fmla="val -44486"/>
              <a:gd name="adj2" fmla="val 6997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Bonjour, je m’appelle Mar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164360" y="2421000"/>
            <a:ext cx="1584360" cy="7920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nchanté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95640" y="1197000"/>
            <a:ext cx="2016360" cy="5763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nchan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6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6000"/>
                            </p:stCondLst>
                            <p:childTnLst>
                              <p:par>
                                <p:cTn id="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700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aire la pré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onjour, je m’appelle Marie. J’ai 30 ans. J’habite à Grenade, je suis espagno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Je suis professeur de langue frança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J’aime lire, aller au cinéma, voyager et faire du s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Buenos días, me llamo Maria. Tengo 30 años. Vivo en Granada, soy españo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Soy profesora de lengua frances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Me gusta leer, ir al cine, viajar y hacer depor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9:28:10Z</dcterms:created>
  <dc:creator> </dc:creator>
  <dc:description/>
  <dc:language>en-US</dc:language>
  <cp:lastModifiedBy> </cp:lastModifiedBy>
  <dcterms:modified xsi:type="dcterms:W3CDTF">2014-11-16T08:16:26Z</dcterms:modified>
  <cp:revision>7</cp:revision>
  <dc:subject/>
  <dc:title>Les salutations et la présentation</dc:title>
</cp:coreProperties>
</file>